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C88D-70EF-456A-850D-978D2497E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4936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49360" y="160020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49360" y="386892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FD6A-BEF6-4AFB-93C0-228962390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4936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49360" y="160020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49360" y="386892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386892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2A91-60EB-4189-86C0-3AD7C110D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4936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49360" y="160020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68440" y="160020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160" y="160020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49360" y="386892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68440" y="386892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160" y="386892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2326-E62F-4671-B72E-7FCA0EF5B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362F2-83DB-4CCC-AE4C-1F0852AC5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4936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49360" y="1600200"/>
            <a:ext cx="8042040" cy="43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DBF22-BCF5-4C92-B82A-75AD7F7A1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4936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49360" y="1600200"/>
            <a:ext cx="8042040" cy="43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E4856-4192-4603-B505-039F5685A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4936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49360" y="1600200"/>
            <a:ext cx="3924360" cy="43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924360" cy="43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F452D-8DF5-4504-AABE-083E8DEAE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4936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F9BCD-C043-4D30-9714-6A8639E56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49360" y="107640"/>
            <a:ext cx="804204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8206B-2CEB-4E4E-94E2-38D391C34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4936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49360" y="160020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924360" cy="43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49360" y="386892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69512-A8EB-4268-8C78-FC3FB6EC4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4936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49360" y="1600200"/>
            <a:ext cx="8042040" cy="43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58CD-C48B-49F5-9DEB-80A007692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4936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49360" y="1600200"/>
            <a:ext cx="3924360" cy="43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386892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6E65C-2049-44BC-BEDB-32506ACE5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4936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49360" y="160020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49360" y="386892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FF569-88D4-4C10-8ED0-CE094FBCD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4936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49360" y="160020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49360" y="386892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541DD-AF3D-423A-BADD-8F293C50F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4936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49360" y="160020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49360" y="386892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386892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93DE0-2536-44BC-89B8-7DCB8CF00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4936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49360" y="160020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68440" y="160020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7160" y="160020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49360" y="386892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68440" y="386892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7160" y="386892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3BBD6-73D1-46FE-BEF4-3AA5137A8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4936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49360" y="1600200"/>
            <a:ext cx="8042040" cy="43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7C2B-C98A-4EAF-A1AB-6E9142A0F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4936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49360" y="1600200"/>
            <a:ext cx="3924360" cy="43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924360" cy="43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E3C6-DA01-4133-9F8A-97F6785A5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4936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FBDF-7B5B-4582-9872-20EE22650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49360" y="107640"/>
            <a:ext cx="804204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9365-A678-48A1-BAF1-259EA7BF6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4936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49360" y="160020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924360" cy="43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49360" y="386892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1A85-1A8A-4095-B1CB-3585231AA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4936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49360" y="1600200"/>
            <a:ext cx="3924360" cy="43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386892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2B89-D79F-4F9C-A4F2-D896A45C2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4936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49360" y="160020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49360" y="386892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15C6-7A49-4728-B664-D1C329979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1328040" y="1295280"/>
            <a:ext cx="6487200" cy="3152520"/>
          </a:xfrm>
          <a:prstGeom prst="rect">
            <a:avLst/>
          </a:prstGeom>
          <a:noFill/>
          <a:ln w="3175">
            <a:solidFill>
              <a:srgbClr val="ffffff"/>
            </a:solidFill>
            <a:round/>
          </a:ln>
          <a:effectLst>
            <a:outerShdw algn="ctr" blurRad="63360" rotWithShape="0" sx="100500" sy="10050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323000" y="1523880"/>
            <a:ext cx="6497640" cy="172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CA" sz="4600" spc="-1" strike="noStrike">
                <a:solidFill>
                  <a:schemeClr val="accent1"/>
                </a:solidFill>
                <a:latin typeface="News Gothic MT"/>
              </a:rPr>
              <a:t>Click to edit Master title style</a:t>
            </a:r>
            <a:endParaRPr b="0" lang="en-US" sz="46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5629680" y="6275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News Gothic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264600" y="6275520"/>
            <a:ext cx="48405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7898040" y="6275520"/>
            <a:ext cx="990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3600" spc="-1" strike="noStrike">
                <a:solidFill>
                  <a:srgbClr val="ffffff"/>
                </a:solidFill>
                <a:latin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80B4778-0A6E-463A-8FFE-ECBBC8DD53E5}" type="slidenum">
              <a:rPr b="0" lang="en-US" sz="3600" spc="-1" strike="noStrike">
                <a:solidFill>
                  <a:srgbClr val="ffffff"/>
                </a:solidFill>
                <a:latin typeface="News Gothic MT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4936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CA" sz="4600" spc="-1" strike="noStrike">
                <a:solidFill>
                  <a:schemeClr val="accent1"/>
                </a:solidFill>
                <a:latin typeface="News Gothic MT"/>
              </a:rPr>
              <a:t>Click to edit Master title style</a:t>
            </a:r>
            <a:endParaRPr b="0" lang="en-US" sz="46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49360" y="1600200"/>
            <a:ext cx="8042040" cy="43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92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</a:pPr>
            <a:r>
              <a:rPr b="0" lang="en-CA" sz="2400" spc="-1" strike="noStrike">
                <a:solidFill>
                  <a:srgbClr val="595959"/>
                </a:solidFill>
                <a:latin typeface="News Gothic MT"/>
              </a:rPr>
              <a:t>Click to edit Master text style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10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</a:pPr>
            <a:r>
              <a:rPr b="0" lang="en-CA" sz="2200" spc="-1" strike="noStrike">
                <a:solidFill>
                  <a:srgbClr val="595959"/>
                </a:solidFill>
                <a:latin typeface="News Gothic MT"/>
              </a:rPr>
              <a:t>Second level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lnSpc>
                <a:spcPct val="100000"/>
              </a:lnSpc>
              <a:spcBef>
                <a:spcPts val="601"/>
              </a:spcBef>
              <a:buClr>
                <a:srgbClr val="6fb7d7"/>
              </a:buClr>
              <a:buSzPct val="110000"/>
              <a:buFont typeface="Wingdings 2" charset="2"/>
              <a:buChar char=""/>
            </a:pPr>
            <a:r>
              <a:rPr b="0" lang="en-CA" sz="2000" spc="-1" strike="noStrike">
                <a:solidFill>
                  <a:srgbClr val="595959"/>
                </a:solidFill>
                <a:latin typeface="News Gothic MT"/>
              </a:rPr>
              <a:t>Third level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lnSpc>
                <a:spcPct val="10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</a:pPr>
            <a:r>
              <a:rPr b="0" lang="en-CA" sz="1800" spc="-1" strike="noStrike">
                <a:solidFill>
                  <a:srgbClr val="595959"/>
                </a:solidFill>
                <a:latin typeface="News Gothic MT"/>
              </a:rPr>
              <a:t>Fourth level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lvl="4" marL="1546200" indent="-282600">
              <a:lnSpc>
                <a:spcPct val="100000"/>
              </a:lnSpc>
              <a:spcBef>
                <a:spcPts val="601"/>
              </a:spcBef>
              <a:buClr>
                <a:srgbClr val="6fb7d7"/>
              </a:buClr>
              <a:buSzPct val="110000"/>
              <a:buFont typeface="Wingdings 2" charset="2"/>
              <a:buChar char=""/>
            </a:pPr>
            <a:r>
              <a:rPr b="0" lang="en-CA" sz="1800" spc="-1" strike="noStrike">
                <a:solidFill>
                  <a:srgbClr val="595959"/>
                </a:solidFill>
                <a:latin typeface="News Gothic MT"/>
              </a:rPr>
              <a:t>Fifth level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5629680" y="6275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News Gothic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264600" y="6275520"/>
            <a:ext cx="48405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898040" y="6275520"/>
            <a:ext cx="990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3600" spc="-1" strike="noStrike">
                <a:solidFill>
                  <a:srgbClr val="ffffff"/>
                </a:solidFill>
                <a:latin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4C4475F-942D-4D0B-8085-C473CC79ED86}" type="slidenum">
              <a:rPr b="0" lang="en-US" sz="3600" spc="-1" strike="noStrike">
                <a:solidFill>
                  <a:srgbClr val="ffffff"/>
                </a:solidFill>
                <a:latin typeface="News Gothic MT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23000" y="1523880"/>
            <a:ext cx="6497640" cy="172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4600" spc="-1" strike="noStrike">
                <a:solidFill>
                  <a:schemeClr val="accent1"/>
                </a:solidFill>
                <a:latin typeface="News Gothic MT"/>
              </a:rPr>
              <a:t>Design Skills: Use Cases</a:t>
            </a:r>
            <a:endParaRPr b="0" lang="en-US" sz="46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23000" y="3299040"/>
            <a:ext cx="6497640" cy="91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8b8b8b"/>
                </a:solidFill>
                <a:latin typeface="News Gothic MT"/>
              </a:rPr>
              <a:t>TA: Shreya Raw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4936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600" spc="-1" strike="noStrike">
                <a:solidFill>
                  <a:schemeClr val="accent1"/>
                </a:solidFill>
                <a:latin typeface="News Gothic MT"/>
              </a:rPr>
              <a:t>Last Class</a:t>
            </a:r>
            <a:endParaRPr b="0" lang="en-US" sz="46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49360" y="1600200"/>
            <a:ext cx="8042040" cy="43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2286000" y="1600200"/>
            <a:ext cx="4952520" cy="51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4936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600" spc="-1" strike="noStrike">
                <a:solidFill>
                  <a:schemeClr val="accent1"/>
                </a:solidFill>
                <a:latin typeface="News Gothic MT"/>
              </a:rPr>
              <a:t>Types of Actors</a:t>
            </a:r>
            <a:endParaRPr b="0" lang="en-US" sz="46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49360" y="1600200"/>
            <a:ext cx="8042040" cy="43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ere are 3 types of actor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Role (User): A person in the business environment. NOTE: Not a specific person. A Role that a person would take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ystem: An external system which uses the system: Eg. accounting system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Device: An external device which interfaces with the system: Eg. Handheld scanner or Server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4936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600" spc="-1" strike="noStrike">
                <a:solidFill>
                  <a:schemeClr val="accent1"/>
                </a:solidFill>
                <a:latin typeface="News Gothic MT"/>
              </a:rPr>
              <a:t>Use Case:</a:t>
            </a:r>
            <a:endParaRPr b="0" lang="en-US" sz="46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49360" y="1600200"/>
            <a:ext cx="8042040" cy="43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Ivar Jacobson defines a "Use Case" as "a sequence of transactions performed by the system which yields a measurable result of value for a particular actor”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indent="0">
              <a:lnSpc>
                <a:spcPct val="100000"/>
              </a:lnSpc>
              <a:spcBef>
                <a:spcPts val="2001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10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Use Cases describe "what" the system does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lnSpc>
                <a:spcPct val="100000"/>
              </a:lnSpc>
              <a:spcBef>
                <a:spcPts val="601"/>
              </a:spcBef>
              <a:buClr>
                <a:srgbClr val="6fb7d7"/>
              </a:buClr>
              <a:buSzPct val="110000"/>
              <a:buFont typeface="Wingdings 2" charset="2"/>
              <a:buChar char=""/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</a:rPr>
              <a:t>Use cases represent an external view of the system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lnSpc>
                <a:spcPct val="100000"/>
              </a:lnSpc>
              <a:spcBef>
                <a:spcPts val="601"/>
              </a:spcBef>
              <a:buClr>
                <a:srgbClr val="6fb7d7"/>
              </a:buClr>
              <a:buSzPct val="110000"/>
              <a:buFont typeface="Wingdings 2" charset="2"/>
              <a:buChar char=""/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</a:rPr>
              <a:t>A complete set of Use Cases describe the scope of the system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4936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600" spc="-1" strike="noStrike">
                <a:solidFill>
                  <a:schemeClr val="accent1"/>
                </a:solidFill>
                <a:latin typeface="News Gothic MT"/>
              </a:rPr>
              <a:t>Writing and Identifying a Use Case</a:t>
            </a:r>
            <a:endParaRPr b="0" lang="en-US" sz="46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49360" y="1600200"/>
            <a:ext cx="8042040" cy="43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A Use-Case describes what the system DOE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10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Does not describe what the system "must" do, "should" do or "could" do. 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Identify the goals of each actor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10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What do the actors require from the system?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10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The actor arrives, interacts with the system, then leaves. 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Review requirement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Identify tasks which the system must perform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indent="0">
              <a:lnSpc>
                <a:spcPct val="100000"/>
              </a:lnSpc>
              <a:spcBef>
                <a:spcPts val="2001"/>
              </a:spcBef>
              <a:buNone/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4936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600" spc="-1" strike="noStrike">
                <a:solidFill>
                  <a:schemeClr val="accent1"/>
                </a:solidFill>
                <a:latin typeface="News Gothic MT"/>
              </a:rPr>
              <a:t>Headings in Use Case</a:t>
            </a:r>
            <a:endParaRPr b="0" lang="en-US" sz="46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49360" y="1600200"/>
            <a:ext cx="8042040" cy="43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358920" indent="-35892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595959"/>
                </a:solidFill>
                <a:latin typeface="News Gothic MT"/>
              </a:rPr>
              <a:t>* Name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 (Name of the Use Case)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58920" indent="-35892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595959"/>
                </a:solidFill>
                <a:latin typeface="News Gothic MT"/>
              </a:rPr>
              <a:t>* Description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 (Describes the functionality of the use case)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58920" indent="-35892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595959"/>
                </a:solidFill>
                <a:latin typeface="News Gothic MT"/>
              </a:rPr>
              <a:t>* Primary Actors 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(Actors which are directly involved)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58920" indent="-35892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595959"/>
                </a:solidFill>
                <a:latin typeface="News Gothic MT"/>
              </a:rPr>
              <a:t>Secondary Actors 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(Actors which are not directly involved but can access/affect the Use Case)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58920" indent="-35892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595959"/>
                </a:solidFill>
                <a:latin typeface="News Gothic MT"/>
              </a:rPr>
              <a:t>Preconditions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 (Conditions which must be fulfilled before that Use Case can do its functionality)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58920" indent="-35892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595959"/>
                </a:solidFill>
                <a:latin typeface="News Gothic MT"/>
              </a:rPr>
              <a:t>* Main Flow 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(Step by Step description of the main flow)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58920" indent="-35892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595959"/>
                </a:solidFill>
                <a:latin typeface="News Gothic MT"/>
              </a:rPr>
              <a:t>Postconditions 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(Conditions which must be fulfilled after that Use Case has done its functionality)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58920" indent="-35892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595959"/>
                </a:solidFill>
                <a:latin typeface="News Gothic MT"/>
              </a:rPr>
              <a:t>Alternative Flows 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(Possible alternative options for the same use-case)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Breeze">
  <a:themeElements>
    <a:clrScheme name="Breeze">
      <a:dk1>
        <a:srgbClr val="000000"/>
      </a:dk1>
      <a:lt1>
        <a:srgbClr val="ffffff"/>
      </a:lt1>
      <a:dk2>
        <a:srgbClr val="09213b"/>
      </a:dk2>
      <a:lt2>
        <a:srgbClr val="d5edf4"/>
      </a:lt2>
      <a:accent1>
        <a:srgbClr val="2c7c9f"/>
      </a:accent1>
      <a:accent2>
        <a:srgbClr val="244a58"/>
      </a:accent2>
      <a:accent3>
        <a:srgbClr val="e2751d"/>
      </a:accent3>
      <a:accent4>
        <a:srgbClr val="ffb400"/>
      </a:accent4>
      <a:accent5>
        <a:srgbClr val="7eb606"/>
      </a:accent5>
      <a:accent6>
        <a:srgbClr val="c00000"/>
      </a:accent6>
      <a:hlink>
        <a:srgbClr val="7030a0"/>
      </a:hlink>
      <a:folHlink>
        <a:srgbClr val="00b0f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Breeze">
  <a:themeElements>
    <a:clrScheme name="Breeze">
      <a:dk1>
        <a:srgbClr val="000000"/>
      </a:dk1>
      <a:lt1>
        <a:srgbClr val="ffffff"/>
      </a:lt1>
      <a:dk2>
        <a:srgbClr val="09213b"/>
      </a:dk2>
      <a:lt2>
        <a:srgbClr val="d5edf4"/>
      </a:lt2>
      <a:accent1>
        <a:srgbClr val="2c7c9f"/>
      </a:accent1>
      <a:accent2>
        <a:srgbClr val="244a58"/>
      </a:accent2>
      <a:accent3>
        <a:srgbClr val="e2751d"/>
      </a:accent3>
      <a:accent4>
        <a:srgbClr val="ffb400"/>
      </a:accent4>
      <a:accent5>
        <a:srgbClr val="7eb606"/>
      </a:accent5>
      <a:accent6>
        <a:srgbClr val="c00000"/>
      </a:accent6>
      <a:hlink>
        <a:srgbClr val="7030a0"/>
      </a:hlink>
      <a:folHlink>
        <a:srgbClr val="00b0f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Breeze.thmx</Template>
  <TotalTime>29</TotalTime>
  <Application>LibreOffice/7.4.7.2$Linux_X86_64 LibreOffice_project/40$Build-2</Application>
  <AppVersion>15.0000</AppVersion>
  <Words>322</Words>
  <Paragraphs>31</Paragraphs>
  <Company>University of Calgary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1T15:58:12Z</dcterms:created>
  <dc:creator>Shreya Rawal</dc:creator>
  <dc:description/>
  <dc:language>en-US</dc:language>
  <cp:lastModifiedBy>Shreya Rawal</cp:lastModifiedBy>
  <dcterms:modified xsi:type="dcterms:W3CDTF">2009-04-01T16:27:16Z</dcterms:modified>
  <cp:revision>7</cp:revision>
  <dc:subject/>
  <dc:title>Design Skills: Use Ca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6</vt:r8>
  </property>
</Properties>
</file>